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08A6-4D6B-434F-8836-336478CCC3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B09D-B1EE-4B00-9D3B-FD0DA52F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28EB-8D2C-4A6C-9BED-AB17778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9CD1-7B58-4D18-BB63-F7E7FFAF80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4947-71B1-4A38-B60E-F6B4DA7F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D0E7-5393-4CD1-A8BB-DA686724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B446-E11D-467C-AEFF-215B7B82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95F6-FB52-4BC1-A882-F4B853D5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4044-7001-4996-8C14-D83D7661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81EA-32F3-4EB6-892B-78A2260F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321B-ADF6-478B-B019-9FDE52FA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40256-BFB2-4746-86B0-C71A6876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3480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4927-9436-406E-84C0-FDD5AC1A6012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May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20560" y="2080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 R A F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7524360" y="142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7451280" y="115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8748360" y="43164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675280" y="404640"/>
            <a:ext cx="360360" cy="333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Business Operations Support 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34936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628640"/>
            <a:ext cx="2160360" cy="540000"/>
          </a:xfrm>
          <a:prstGeom prst="rect">
            <a:avLst/>
          </a:prstGeom>
          <a:solidFill>
            <a:srgbClr val="d1c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usiness Operation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	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g J Liu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2852640"/>
            <a:ext cx="115092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2852640"/>
            <a:ext cx="115272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rategy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285264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85264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Contr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28000" y="285120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DA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ontracts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E8C5-7A29-4736-BAC7-6614B2976FE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Brandl Nicole</dc:creator>
  <dc:description/>
  <dc:language>en-US</dc:language>
  <cp:lastModifiedBy> </cp:lastModifiedBy>
  <dcterms:modified xsi:type="dcterms:W3CDTF">2006-05-15T09:37:50Z</dcterms:modified>
  <cp:revision>62</cp:revision>
  <dc:subject/>
  <dc:title>PHE R&amp;D</dc:title>
</cp:coreProperties>
</file>